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CBB1-E23A-4A6C-BDDF-470C51B64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3207-3635-4D9E-A87F-7CB072700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C4B3-30BE-4880-A2F4-D25BA9CCF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01F2-5657-42E0-9ABB-2A5299B88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4117-1C86-43BF-9E25-89D6F1BC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E52A-BFB9-4C31-BD12-3BE92E7C9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7FBB-6A11-4699-B11C-6D13AC42B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365F-9317-4407-BBE3-FED50855C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0A4A-2692-4730-9576-FC1790EF7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4EBF-E133-4598-9DD2-E649BBE4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A570-CB47-44DE-A23E-BB2B0316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3C72-58CE-4C46-876F-58D3180E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05231-E449-49B0-A7E7-39D0F0BB3B6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does it take to become a successful businesspers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ill G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B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– First worked for, but wanted to be “bigger than IB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pp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– Used the WYSIWYG scheme developed by Steve J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crosof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– buys out opposition or undercuts them till they f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1" descr="bill-gates"/>
          <p:cNvPicPr/>
          <p:nvPr/>
        </p:nvPicPr>
        <p:blipFill>
          <a:blip r:embed="rId1"/>
          <a:stretch/>
        </p:blipFill>
        <p:spPr>
          <a:xfrm>
            <a:off x="468360" y="1557360"/>
            <a:ext cx="38098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ichard Dy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ll time inven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tented wheelbarrow that used a ball, not a wheel (less fri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tented a new vacuum design which was then copied in U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successfully sued even though they tried to bankrupt him by dragging out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dc12_james_dyson"/>
          <p:cNvPicPr/>
          <p:nvPr/>
        </p:nvPicPr>
        <p:blipFill>
          <a:blip r:embed="rId1"/>
          <a:stretch/>
        </p:blipFill>
        <p:spPr>
          <a:xfrm>
            <a:off x="395280" y="1557360"/>
            <a:ext cx="40654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ichard Bran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ted school; left at 16 (dyslex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up “Student” magaz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ld records by mail order through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up “Virgin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usic, Ballooning, Skiing, Spaceship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usiness has to be involving, it has to be fun, and it has to exercise your creative instincts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rbranson"/>
          <p:cNvPicPr/>
          <p:nvPr/>
        </p:nvPicPr>
        <p:blipFill>
          <a:blip r:embed="rId1"/>
          <a:stretch/>
        </p:blipFill>
        <p:spPr>
          <a:xfrm>
            <a:off x="468360" y="1557360"/>
            <a:ext cx="3168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branson"/>
          <p:cNvPicPr/>
          <p:nvPr/>
        </p:nvPicPr>
        <p:blipFill>
          <a:blip r:embed="rId1"/>
          <a:stretch/>
        </p:blipFill>
        <p:spPr>
          <a:xfrm>
            <a:off x="0" y="0"/>
            <a:ext cx="4191120" cy="2971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branson"/>
          <p:cNvPicPr/>
          <p:nvPr/>
        </p:nvPicPr>
        <p:blipFill>
          <a:blip r:embed="rId2"/>
          <a:stretch/>
        </p:blipFill>
        <p:spPr>
          <a:xfrm>
            <a:off x="3780000" y="2492280"/>
            <a:ext cx="2909880" cy="4365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FF_136_branson1_f"/>
          <p:cNvPicPr/>
          <p:nvPr/>
        </p:nvPicPr>
        <p:blipFill>
          <a:blip r:embed="rId3"/>
          <a:stretch/>
        </p:blipFill>
        <p:spPr>
          <a:xfrm>
            <a:off x="0" y="3967200"/>
            <a:ext cx="2168640" cy="2890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article169_img1"/>
          <p:cNvPicPr/>
          <p:nvPr/>
        </p:nvPicPr>
        <p:blipFill>
          <a:blip r:embed="rId4"/>
          <a:stretch/>
        </p:blipFill>
        <p:spPr>
          <a:xfrm>
            <a:off x="6400800" y="0"/>
            <a:ext cx="274320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4T10:49:42Z</dcterms:created>
  <dc:creator>IST</dc:creator>
  <dc:description/>
  <dc:language>en-US</dc:language>
  <cp:lastModifiedBy>MacAdmin Kis</cp:lastModifiedBy>
  <dcterms:modified xsi:type="dcterms:W3CDTF">2008-11-07T03:53:34Z</dcterms:modified>
  <cp:revision>4</cp:revision>
  <dc:subject/>
  <dc:title>What does it take to become a successful businessperson?</dc:title>
</cp:coreProperties>
</file>